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1094-9D04-4AD6-BF4F-FBE85AD8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72B0-81A2-4125-8832-A07AFCA02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BF29-D591-4FD9-99E9-F5954DC7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1AE-7161-44D9-A3DE-87757CAD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F8F7-ACFA-47FC-9626-BB02A235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6F7F-24CC-4DA2-8128-1BBBB0F9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5A4-DED9-45CB-BBCB-C3DFB4BB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E338-50D3-4671-A457-263A3AB1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0458-A0FF-4AA1-9E23-A892FFB4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B469-2D86-44D7-8D38-79BDE8B5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07D5-AB1A-4730-AEE9-9ADB19D0B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1DD9-A029-416A-9FD9-BEDC9A2F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FCB3-63B8-41AD-9F38-B55D78C5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79F-FD86-4D1B-ACA8-F5FA3601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AA53-9B59-4BBF-AF6E-94E479FB9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5AB-D4E4-4EE0-89B5-7F399FD2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271-93A6-46F6-9BF5-DEC88F5B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3D4B-3CDA-4547-841B-46945923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C5F-326A-490B-96DD-040FACAB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90B7-C948-4C79-A508-85876B9A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EF9-6B99-46CB-B0F2-766587A2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A7FC-20B6-4EE9-847A-90A0C828B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6AB3-24BF-4161-B39D-C8D286C2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699-0EAA-41D7-A369-F99C79D0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1EB-A111-4F6B-830F-9F7DDA39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755A-EEAE-445D-8C20-682AF8DE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5007-1F59-45A9-A81F-7EF1D4BCE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BB4-E2FE-4507-86AF-AF7D139C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2A7-A4EF-4A5B-90A7-DC2A70027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5E47-A94F-4B26-8F1D-FFB375130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937-971B-4551-A267-F143CFE7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8CB-F13B-441A-BD22-B3B3857A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A5B-8C58-4E6B-BB99-4BA8A50B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7CE-2B43-40F9-A828-C5A08C2C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41D-2000-4C57-BCFD-8129459A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C2E-C721-48DA-9D42-5EFF255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0A3-7F00-42EF-8381-99B25390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CD8-7085-4ED7-9726-1421DA9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F65-550E-452C-A94E-99357FE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801-D4EE-4622-86F4-E4E05F7A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9EE-3AD1-43DB-B333-45710E7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D3D-90BD-4D76-9E17-1678EBB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A5E-6A70-4AE0-802E-9A1D407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275B-0308-47C3-8A8A-E38C00933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73120" y="1335240"/>
            <a:ext cx="37339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ame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New_Logo_TMI_2[1]"/>
          <p:cNvPicPr/>
          <p:nvPr/>
        </p:nvPicPr>
        <p:blipFill>
          <a:blip r:embed="rId1"/>
          <a:stretch/>
        </p:blipFill>
        <p:spPr>
          <a:xfrm>
            <a:off x="7391520" y="5678640"/>
            <a:ext cx="175248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50002" t="14367" r="2034" b="13540"/>
          <a:stretch/>
        </p:blipFill>
        <p:spPr>
          <a:xfrm>
            <a:off x="717480" y="1447920"/>
            <a:ext cx="349092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4648320" y="2133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752480" y="1295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ing the circle map, define a h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New_Logo_TMI_2[1]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770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7162920" y="457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1143000" y="1371600"/>
            <a:ext cx="15238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57200" y="2743200"/>
            <a:ext cx="1523880" cy="350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or Knowl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2971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know what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e Specifi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6405" t="14584" r="16405" b="10420"/>
          <a:stretch/>
        </p:blipFill>
        <p:spPr>
          <a:xfrm>
            <a:off x="533520" y="287280"/>
            <a:ext cx="7848360" cy="65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(s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did you get your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best source for information about this subjec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145" name="Oval 5"/>
          <p:cNvSpPr/>
          <p:nvPr/>
        </p:nvSpPr>
        <p:spPr>
          <a:xfrm>
            <a:off x="1752480" y="2819520"/>
            <a:ext cx="190512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38080" y="29718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 the following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aig Wilson’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Real heroes:  We could all learn something from them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USA Toda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November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609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let’s add a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ur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beyond your Prior Knowled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8380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rcRect l="35158" t="30211" r="29687" b="21878"/>
          <a:stretch/>
        </p:blipFill>
        <p:spPr>
          <a:xfrm>
            <a:off x="5486400" y="30492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rcRect l="35158" t="32293" r="30470" b="21878"/>
          <a:stretch/>
        </p:blipFill>
        <p:spPr>
          <a:xfrm>
            <a:off x="762120" y="36576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rcRect l="35937" t="41670" r="27343" b="28124"/>
          <a:stretch/>
        </p:blipFill>
        <p:spPr>
          <a:xfrm>
            <a:off x="5029200" y="4038480"/>
            <a:ext cx="358128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838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4864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8380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029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8380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rcRect l="35158" t="30211" r="29687" b="21878"/>
          <a:stretch/>
        </p:blipFill>
        <p:spPr>
          <a:xfrm>
            <a:off x="5486400" y="30492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rcRect l="35158" t="32293" r="30470" b="21878"/>
          <a:stretch/>
        </p:blipFill>
        <p:spPr>
          <a:xfrm>
            <a:off x="762120" y="36576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rcRect l="35937" t="41670" r="27343" b="28124"/>
          <a:stretch/>
        </p:blipFill>
        <p:spPr>
          <a:xfrm>
            <a:off x="5181480" y="4038480"/>
            <a:ext cx="3581640" cy="22100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533520" y="3657600"/>
            <a:ext cx="350496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181480" y="380880"/>
            <a:ext cx="350532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5105520" y="3657600"/>
            <a:ext cx="3657600" cy="2971800"/>
            <a:chOff x="5105520" y="3657600"/>
            <a:chExt cx="3657600" cy="2971800"/>
          </a:xfrm>
        </p:grpSpPr>
        <p:sp>
          <p:nvSpPr>
            <p:cNvPr id="164" name="Rectangle 9"/>
            <p:cNvSpPr/>
            <p:nvPr/>
          </p:nvSpPr>
          <p:spPr>
            <a:xfrm>
              <a:off x="5105520" y="3657600"/>
              <a:ext cx="365760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5257800" y="61722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 the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533520" y="304920"/>
            <a:ext cx="3720960" cy="2971800"/>
            <a:chOff x="533520" y="304920"/>
            <a:chExt cx="3720960" cy="2971800"/>
          </a:xfrm>
        </p:grpSpPr>
        <p:sp>
          <p:nvSpPr>
            <p:cNvPr id="167" name="Rectangle 12"/>
            <p:cNvSpPr/>
            <p:nvPr/>
          </p:nvSpPr>
          <p:spPr>
            <a:xfrm>
              <a:off x="533520" y="304920"/>
              <a:ext cx="350496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54280" y="2057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otes from the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4"/>
          <p:cNvSpPr/>
          <p:nvPr/>
        </p:nvSpPr>
        <p:spPr>
          <a:xfrm flipH="1" flipV="1">
            <a:off x="3428640" y="2285640"/>
            <a:ext cx="6858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371600" y="9907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re your ideas with the 1’s, 2’s, 3’s, or 4’s at the next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838080" y="3276720"/>
            <a:ext cx="7772040" cy="2971800"/>
            <a:chOff x="838080" y="3276720"/>
            <a:chExt cx="7772040" cy="2971800"/>
          </a:xfrm>
        </p:grpSpPr>
        <p:grpSp>
          <p:nvGrpSpPr>
            <p:cNvPr id="174" name="Group 5"/>
            <p:cNvGrpSpPr/>
            <p:nvPr/>
          </p:nvGrpSpPr>
          <p:grpSpPr>
            <a:xfrm>
              <a:off x="838080" y="3276720"/>
              <a:ext cx="3733560" cy="2971800"/>
              <a:chOff x="838080" y="3276720"/>
              <a:chExt cx="3733560" cy="2971800"/>
            </a:xfrm>
          </p:grpSpPr>
          <p:pic>
            <p:nvPicPr>
              <p:cNvPr id="175" name="Picture 6" descr=""/>
              <p:cNvPicPr/>
              <p:nvPr/>
            </p:nvPicPr>
            <p:blipFill>
              <a:blip r:embed="rId1"/>
              <a:srcRect l="35158" t="32293" r="30470" b="21878"/>
              <a:stretch/>
            </p:blipFill>
            <p:spPr>
              <a:xfrm>
                <a:off x="1142640" y="3276720"/>
                <a:ext cx="28958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Rectangle 7"/>
              <p:cNvSpPr/>
              <p:nvPr/>
            </p:nvSpPr>
            <p:spPr>
              <a:xfrm>
                <a:off x="838080" y="327672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8"/>
              <p:cNvSpPr/>
              <p:nvPr/>
            </p:nvSpPr>
            <p:spPr>
              <a:xfrm>
                <a:off x="2971440" y="502920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9"/>
            <p:cNvGrpSpPr/>
            <p:nvPr/>
          </p:nvGrpSpPr>
          <p:grpSpPr>
            <a:xfrm>
              <a:off x="4876560" y="3276720"/>
              <a:ext cx="3733560" cy="2971800"/>
              <a:chOff x="4876560" y="3276720"/>
              <a:chExt cx="3733560" cy="2971800"/>
            </a:xfrm>
          </p:grpSpPr>
          <p:pic>
            <p:nvPicPr>
              <p:cNvPr id="179" name="Picture 10" descr=""/>
              <p:cNvPicPr/>
              <p:nvPr/>
            </p:nvPicPr>
            <p:blipFill>
              <a:blip r:embed="rId2"/>
              <a:srcRect l="35158" t="32293" r="30470" b="21878"/>
              <a:stretch/>
            </p:blipFill>
            <p:spPr>
              <a:xfrm>
                <a:off x="5181120" y="3276720"/>
                <a:ext cx="28958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Rectangle 11"/>
              <p:cNvSpPr/>
              <p:nvPr/>
            </p:nvSpPr>
            <p:spPr>
              <a:xfrm>
                <a:off x="4876560" y="327672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7009920" y="502920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730080" y="1452600"/>
            <a:ext cx="2294280" cy="3884400"/>
            <a:chOff x="730080" y="1452600"/>
            <a:chExt cx="2294280" cy="3884400"/>
          </a:xfrm>
        </p:grpSpPr>
        <p:sp>
          <p:nvSpPr>
            <p:cNvPr id="55" name="Rectangle 3"/>
            <p:cNvSpPr/>
            <p:nvPr/>
          </p:nvSpPr>
          <p:spPr>
            <a:xfrm>
              <a:off x="730080" y="1452600"/>
              <a:ext cx="2294280" cy="38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Object 4"/>
            <p:cNvGraphicFramePr/>
            <p:nvPr/>
          </p:nvGraphicFramePr>
          <p:xfrm>
            <a:off x="1922400" y="1596960"/>
            <a:ext cx="99072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2400" y="1596960"/>
                      <a:ext cx="990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5"/>
            <p:cNvGraphicFramePr/>
            <p:nvPr/>
          </p:nvGraphicFramePr>
          <p:xfrm>
            <a:off x="855720" y="2511360"/>
            <a:ext cx="1009440" cy="8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5720" y="2511360"/>
                      <a:ext cx="1009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Object 6"/>
            <p:cNvGraphicFramePr/>
            <p:nvPr/>
          </p:nvGraphicFramePr>
          <p:xfrm>
            <a:off x="1908000" y="2522520"/>
            <a:ext cx="1011240" cy="86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2522520"/>
                      <a:ext cx="101124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7"/>
            <p:cNvGraphicFramePr/>
            <p:nvPr/>
          </p:nvGraphicFramePr>
          <p:xfrm>
            <a:off x="855720" y="3425760"/>
            <a:ext cx="990720" cy="89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5720" y="3425760"/>
                      <a:ext cx="99072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Object 8"/>
            <p:cNvGraphicFramePr/>
            <p:nvPr/>
          </p:nvGraphicFramePr>
          <p:xfrm>
            <a:off x="1908000" y="3425760"/>
            <a:ext cx="1005120" cy="903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8000" y="3425760"/>
                      <a:ext cx="100512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Object 9"/>
            <p:cNvGraphicFramePr/>
            <p:nvPr/>
          </p:nvGraphicFramePr>
          <p:xfrm>
            <a:off x="849240" y="4340160"/>
            <a:ext cx="1009800" cy="88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9240" y="4340160"/>
                      <a:ext cx="1009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Object 10"/>
            <p:cNvGraphicFramePr/>
            <p:nvPr/>
          </p:nvGraphicFramePr>
          <p:xfrm>
            <a:off x="1908000" y="4340160"/>
            <a:ext cx="1001880" cy="88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08000" y="4340160"/>
                      <a:ext cx="100188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0" name="Object 11"/>
          <p:cNvGraphicFramePr/>
          <p:nvPr/>
        </p:nvGraphicFramePr>
        <p:xfrm>
          <a:off x="851040" y="1581120"/>
          <a:ext cx="1019160" cy="88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1040" y="1581120"/>
                    <a:ext cx="1019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12"/>
          <p:cNvSpPr/>
          <p:nvPr/>
        </p:nvSpPr>
        <p:spPr>
          <a:xfrm>
            <a:off x="3276720" y="5791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Perpetua"/>
              </a:rPr>
              <a:t>For </a:t>
            </a: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referencing</a:t>
            </a:r>
            <a:r>
              <a:rPr b="0" lang="en-US" sz="3600" spc="-1" strike="noStrike">
                <a:solidFill>
                  <a:srgbClr val="bbe0e3"/>
                </a:solidFill>
                <a:latin typeface="Perpetua"/>
              </a:rPr>
              <a:t>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3505320" y="3886200"/>
            <a:ext cx="5105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Perpetua"/>
              </a:rPr>
              <a:t>The Fram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Perpetua"/>
              <a:ea typeface="Perpetua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572000" y="914400"/>
            <a:ext cx="304812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952880" y="1276200"/>
            <a:ext cx="2320920" cy="20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609480" y="228600"/>
            <a:ext cx="3429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533520" y="228600"/>
            <a:ext cx="8153280" cy="3047760"/>
            <a:chOff x="533520" y="228600"/>
            <a:chExt cx="8153280" cy="3047760"/>
          </a:xfrm>
        </p:grpSpPr>
        <p:pic>
          <p:nvPicPr>
            <p:cNvPr id="184" name="Picture 4" descr=""/>
            <p:cNvPicPr/>
            <p:nvPr/>
          </p:nvPicPr>
          <p:blipFill>
            <a:blip r:embed="rId2"/>
            <a:srcRect l="35158" t="30211" r="29687" b="21878"/>
            <a:stretch/>
          </p:blipFill>
          <p:spPr>
            <a:xfrm>
              <a:off x="5257800" y="304560"/>
              <a:ext cx="33526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"/>
            <p:cNvSpPr/>
            <p:nvPr/>
          </p:nvSpPr>
          <p:spPr>
            <a:xfrm>
              <a:off x="5181480" y="304560"/>
              <a:ext cx="350532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"/>
            <p:cNvGrpSpPr/>
            <p:nvPr/>
          </p:nvGrpSpPr>
          <p:grpSpPr>
            <a:xfrm>
              <a:off x="533520" y="228600"/>
              <a:ext cx="3581280" cy="2971800"/>
              <a:chOff x="533520" y="228600"/>
              <a:chExt cx="3581280" cy="2971800"/>
            </a:xfrm>
          </p:grpSpPr>
          <p:sp>
            <p:nvSpPr>
              <p:cNvPr id="187" name="Rectangle 7"/>
              <p:cNvSpPr/>
              <p:nvPr/>
            </p:nvSpPr>
            <p:spPr>
              <a:xfrm>
                <a:off x="533520" y="22860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"/>
              <p:cNvSpPr/>
              <p:nvPr/>
            </p:nvSpPr>
            <p:spPr>
              <a:xfrm>
                <a:off x="2654280" y="2361960"/>
                <a:ext cx="14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Line 9"/>
          <p:cNvSpPr/>
          <p:nvPr/>
        </p:nvSpPr>
        <p:spPr>
          <a:xfrm flipH="1" flipV="1">
            <a:off x="3428640" y="2285640"/>
            <a:ext cx="6858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3"/>
          <a:srcRect l="25782" t="34375" r="20315" b="25004"/>
          <a:stretch/>
        </p:blipFill>
        <p:spPr>
          <a:xfrm>
            <a:off x="2286000" y="358128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838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4100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457200" y="228600"/>
            <a:ext cx="8229600" cy="2971800"/>
            <a:chOff x="457200" y="228600"/>
            <a:chExt cx="8229600" cy="2971800"/>
          </a:xfrm>
        </p:grpSpPr>
        <p:pic>
          <p:nvPicPr>
            <p:cNvPr id="195" name="Picture 3" descr=""/>
            <p:cNvPicPr/>
            <p:nvPr/>
          </p:nvPicPr>
          <p:blipFill>
            <a:blip r:embed="rId1"/>
            <a:srcRect l="35158" t="32293" r="30470" b="21878"/>
            <a:stretch/>
          </p:blipFill>
          <p:spPr>
            <a:xfrm>
              <a:off x="533160" y="228600"/>
              <a:ext cx="32767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" descr=""/>
            <p:cNvPicPr/>
            <p:nvPr/>
          </p:nvPicPr>
          <p:blipFill>
            <a:blip r:embed="rId2"/>
            <a:srcRect l="35937" t="41670" r="27343" b="28124"/>
            <a:stretch/>
          </p:blipFill>
          <p:spPr>
            <a:xfrm>
              <a:off x="5105160" y="380880"/>
              <a:ext cx="3581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5"/>
            <p:cNvSpPr/>
            <p:nvPr/>
          </p:nvSpPr>
          <p:spPr>
            <a:xfrm>
              <a:off x="457200" y="228600"/>
              <a:ext cx="350496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6"/>
            <p:cNvGrpSpPr/>
            <p:nvPr/>
          </p:nvGrpSpPr>
          <p:grpSpPr>
            <a:xfrm>
              <a:off x="5029200" y="228600"/>
              <a:ext cx="3657600" cy="2971800"/>
              <a:chOff x="5029200" y="228600"/>
              <a:chExt cx="3657600" cy="2971800"/>
            </a:xfrm>
          </p:grpSpPr>
          <p:sp>
            <p:nvSpPr>
              <p:cNvPr id="199" name="Rectangle 7"/>
              <p:cNvSpPr/>
              <p:nvPr/>
            </p:nvSpPr>
            <p:spPr>
              <a:xfrm>
                <a:off x="5029200" y="228600"/>
                <a:ext cx="365760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8"/>
              <p:cNvSpPr/>
              <p:nvPr/>
            </p:nvSpPr>
            <p:spPr>
              <a:xfrm>
                <a:off x="5181480" y="2743200"/>
                <a:ext cx="25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Line 9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rcRect l="21876" t="34375" r="18749" b="20835"/>
          <a:stretch/>
        </p:blipFill>
        <p:spPr>
          <a:xfrm>
            <a:off x="1905120" y="3505320"/>
            <a:ext cx="5486400" cy="3103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1"/>
          <p:cNvSpPr/>
          <p:nvPr/>
        </p:nvSpPr>
        <p:spPr>
          <a:xfrm>
            <a:off x="5105520" y="38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094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5257800" y="2743200"/>
            <a:ext cx="175248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3505320" y="2743200"/>
            <a:ext cx="1752480" cy="327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4495680" y="1295280"/>
            <a:ext cx="15242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10" name="Oval 5"/>
          <p:cNvSpPr/>
          <p:nvPr/>
        </p:nvSpPr>
        <p:spPr>
          <a:xfrm>
            <a:off x="6934320" y="2666880"/>
            <a:ext cx="17524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6934320" y="129528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52280" y="76320"/>
            <a:ext cx="8839440" cy="66294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2362320" y="1066680"/>
            <a:ext cx="4495680" cy="4419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3809880" y="2438280"/>
            <a:ext cx="167652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581280" y="297180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er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0" y="10857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o’s: We could all learn some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43828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aig Wilson’s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7086600" y="1676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00800" y="304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880" y="590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ok at the title of the article.  What do you think Craig Wilson wants us to learn from these “hero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80880" y="2971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838080" y="4572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848720" y="2971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086600" y="4383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25782" t="28124" r="20315" b="18753"/>
          <a:stretch/>
        </p:blipFill>
        <p:spPr>
          <a:xfrm>
            <a:off x="380880" y="380880"/>
            <a:ext cx="838224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25782" t="28124" r="20315" b="18753"/>
          <a:stretch/>
        </p:blipFill>
        <p:spPr>
          <a:xfrm>
            <a:off x="1295280" y="1295280"/>
            <a:ext cx="6805800" cy="5029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38080" y="304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the title of the article.  What do you think Craig Wilson wants us to learn from these “hero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380880" y="2590920"/>
            <a:ext cx="8534520" cy="2739600"/>
            <a:chOff x="380880" y="2590920"/>
            <a:chExt cx="8534520" cy="2739600"/>
          </a:xfrm>
        </p:grpSpPr>
        <p:sp>
          <p:nvSpPr>
            <p:cNvPr id="230" name="Text Box 6"/>
            <p:cNvSpPr/>
            <p:nvPr/>
          </p:nvSpPr>
          <p:spPr>
            <a:xfrm>
              <a:off x="380880" y="297180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380880" y="46483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8"/>
            <p:cNvSpPr/>
            <p:nvPr/>
          </p:nvSpPr>
          <p:spPr>
            <a:xfrm>
              <a:off x="8077320" y="25909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8001000" y="46879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or Knowl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know what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Be Specific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just TV, but which show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(s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did you get your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best source for information about this subject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057400" y="304920"/>
            <a:ext cx="392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int of 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29718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30278" t="22661" r="28849" b="12330"/>
          <a:stretch/>
        </p:blipFill>
        <p:spPr>
          <a:xfrm>
            <a:off x="4572000" y="1430280"/>
            <a:ext cx="4421160" cy="527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762120" y="1447920"/>
            <a:ext cx="262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a specific point of view influence th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90720" y="4038480"/>
            <a:ext cx="247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factors or issues that influence the point of 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752480" y="762120"/>
            <a:ext cx="6019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rame of Referenc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ourages great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2514600" y="4038480"/>
            <a:ext cx="4343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LEC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tex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38080" y="2971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are you doing this 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purpose of this 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could use this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1527120" y="-12600"/>
            <a:ext cx="6552720" cy="6857640"/>
            <a:chOff x="1527120" y="-12600"/>
            <a:chExt cx="6552720" cy="6857640"/>
          </a:xfrm>
        </p:grpSpPr>
        <p:pic>
          <p:nvPicPr>
            <p:cNvPr id="80" name="Picture 4" descr=""/>
            <p:cNvPicPr/>
            <p:nvPr/>
          </p:nvPicPr>
          <p:blipFill>
            <a:blip r:embed="rId1"/>
            <a:srcRect l="16405" t="14909" r="14065" b="10504"/>
            <a:stretch/>
          </p:blipFill>
          <p:spPr>
            <a:xfrm>
              <a:off x="1527120" y="-12600"/>
              <a:ext cx="6546960" cy="45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"/>
            <p:cNvPicPr/>
            <p:nvPr/>
          </p:nvPicPr>
          <p:blipFill>
            <a:blip r:embed="rId2"/>
            <a:srcRect l="17188" t="57297" r="14065" b="4494"/>
            <a:stretch/>
          </p:blipFill>
          <p:spPr>
            <a:xfrm>
              <a:off x="1607040" y="4515480"/>
              <a:ext cx="6472800" cy="232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838080" y="1828800"/>
            <a:ext cx="7696440" cy="1676520"/>
            <a:chOff x="838080" y="1828800"/>
            <a:chExt cx="7696440" cy="1676520"/>
          </a:xfrm>
        </p:grpSpPr>
        <p:sp>
          <p:nvSpPr>
            <p:cNvPr id="83" name="Rectangle 3"/>
            <p:cNvSpPr/>
            <p:nvPr/>
          </p:nvSpPr>
          <p:spPr>
            <a:xfrm>
              <a:off x="838080" y="1828800"/>
              <a:ext cx="320040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4038480" y="2743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5334120" y="1828800"/>
              <a:ext cx="320040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14400" y="4038480"/>
            <a:ext cx="7695720" cy="1676520"/>
            <a:chOff x="914400" y="4038480"/>
            <a:chExt cx="7695720" cy="1676520"/>
          </a:xfrm>
        </p:grpSpPr>
        <p:sp>
          <p:nvSpPr>
            <p:cNvPr id="87" name="Rectangle 7"/>
            <p:cNvSpPr/>
            <p:nvPr/>
          </p:nvSpPr>
          <p:spPr>
            <a:xfrm>
              <a:off x="914400" y="4038480"/>
              <a:ext cx="320004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4114440" y="4952880"/>
              <a:ext cx="1218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5410080" y="4038480"/>
              <a:ext cx="320004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1066680" y="21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15000" y="43434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638680" y="21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th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143000" y="43434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a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1066680" y="533520"/>
            <a:ext cx="7315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do you add the frame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New_Logo_TMI_2[1]"/>
          <p:cNvPicPr/>
          <p:nvPr/>
        </p:nvPicPr>
        <p:blipFill>
          <a:blip r:embed="rId1"/>
          <a:stretch/>
        </p:blipFill>
        <p:spPr>
          <a:xfrm>
            <a:off x="7391520" y="5678640"/>
            <a:ext cx="1752480" cy="11793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9"/>
          <p:cNvGrpSpPr/>
          <p:nvPr/>
        </p:nvGrpSpPr>
        <p:grpSpPr>
          <a:xfrm>
            <a:off x="228600" y="1371600"/>
            <a:ext cx="2819520" cy="3886200"/>
            <a:chOff x="228600" y="1371600"/>
            <a:chExt cx="2819520" cy="3886200"/>
          </a:xfrm>
        </p:grpSpPr>
        <p:sp>
          <p:nvSpPr>
            <p:cNvPr id="98" name="Rectangle 2"/>
            <p:cNvSpPr/>
            <p:nvPr/>
          </p:nvSpPr>
          <p:spPr>
            <a:xfrm>
              <a:off x="228600" y="1371600"/>
              <a:ext cx="2819520" cy="38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"/>
            <p:cNvPicPr/>
            <p:nvPr/>
          </p:nvPicPr>
          <p:blipFill>
            <a:blip r:embed="rId2"/>
            <a:srcRect l="50002" t="14367" r="2034" b="13540"/>
            <a:stretch/>
          </p:blipFill>
          <p:spPr>
            <a:xfrm>
              <a:off x="309960" y="1435320"/>
              <a:ext cx="2635920" cy="36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7"/>
          <p:cNvSpPr/>
          <p:nvPr/>
        </p:nvSpPr>
        <p:spPr>
          <a:xfrm>
            <a:off x="53352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AME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29000" y="10666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used with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429000" y="25146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s students an opportunity to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INK ABOUT THEIR THINK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4438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ourages greater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FLECTIVE THINKING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0" y="5715000"/>
            <a:ext cx="739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New_Logo_TMI_2[1]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770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162920" y="457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7"/>
          <p:cNvGrpSpPr/>
          <p:nvPr/>
        </p:nvGrpSpPr>
        <p:grpSpPr>
          <a:xfrm>
            <a:off x="838080" y="1828800"/>
            <a:ext cx="7696440" cy="1676520"/>
            <a:chOff x="838080" y="1828800"/>
            <a:chExt cx="7696440" cy="1676520"/>
          </a:xfrm>
        </p:grpSpPr>
        <p:grpSp>
          <p:nvGrpSpPr>
            <p:cNvPr id="109" name="Group 2"/>
            <p:cNvGrpSpPr/>
            <p:nvPr/>
          </p:nvGrpSpPr>
          <p:grpSpPr>
            <a:xfrm>
              <a:off x="838080" y="1828800"/>
              <a:ext cx="7696440" cy="1676520"/>
              <a:chOff x="838080" y="1828800"/>
              <a:chExt cx="7696440" cy="1676520"/>
            </a:xfrm>
          </p:grpSpPr>
          <p:sp>
            <p:nvSpPr>
              <p:cNvPr id="110" name="Rectangle 3"/>
              <p:cNvSpPr/>
              <p:nvPr/>
            </p:nvSpPr>
            <p:spPr>
              <a:xfrm>
                <a:off x="838080" y="1828800"/>
                <a:ext cx="3200400" cy="1676520"/>
              </a:xfrm>
              <a:prstGeom prst="rect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"/>
              <p:cNvSpPr/>
              <p:nvPr/>
            </p:nvSpPr>
            <p:spPr>
              <a:xfrm>
                <a:off x="4038480" y="2743200"/>
                <a:ext cx="12193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"/>
              <p:cNvSpPr/>
              <p:nvPr/>
            </p:nvSpPr>
            <p:spPr>
              <a:xfrm>
                <a:off x="5334120" y="1828800"/>
                <a:ext cx="3200400" cy="1676520"/>
              </a:xfrm>
              <a:prstGeom prst="rect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0"/>
            <p:cNvSpPr/>
            <p:nvPr/>
          </p:nvSpPr>
          <p:spPr>
            <a:xfrm>
              <a:off x="1066680" y="2133720"/>
              <a:ext cx="2667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onstruct the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5638680" y="2133720"/>
              <a:ext cx="2667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the Fr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838080" y="4038480"/>
            <a:ext cx="7695720" cy="1676520"/>
            <a:chOff x="838080" y="4038480"/>
            <a:chExt cx="7695720" cy="1676520"/>
          </a:xfrm>
        </p:grpSpPr>
        <p:grpSp>
          <p:nvGrpSpPr>
            <p:cNvPr id="116" name="Group 6"/>
            <p:cNvGrpSpPr/>
            <p:nvPr/>
          </p:nvGrpSpPr>
          <p:grpSpPr>
            <a:xfrm>
              <a:off x="838080" y="4038480"/>
              <a:ext cx="7695720" cy="1676520"/>
              <a:chOff x="838080" y="4038480"/>
              <a:chExt cx="7695720" cy="1676520"/>
            </a:xfrm>
          </p:grpSpPr>
          <p:sp>
            <p:nvSpPr>
              <p:cNvPr id="117" name="Rectangle 7"/>
              <p:cNvSpPr/>
              <p:nvPr/>
            </p:nvSpPr>
            <p:spPr>
              <a:xfrm>
                <a:off x="838080" y="4038480"/>
                <a:ext cx="3200040" cy="1676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4038120" y="4952880"/>
                <a:ext cx="1218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5333760" y="4038480"/>
                <a:ext cx="3200040" cy="1676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11"/>
            <p:cNvSpPr/>
            <p:nvPr/>
          </p:nvSpPr>
          <p:spPr>
            <a:xfrm>
              <a:off x="5638680" y="434340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nstruct the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1066680" y="434340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Assign a Fr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5"/>
          <p:cNvSpPr/>
          <p:nvPr/>
        </p:nvSpPr>
        <p:spPr>
          <a:xfrm>
            <a:off x="76212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 you add the Frame of Re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3000" y="152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MODEL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9480" y="990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the upcoming lesson you wil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90720" y="1828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Frames of Reference to a variety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inking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90720" y="30481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Thinking Maps throughout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14400" y="4191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uct Thinking Maps using sev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perative learn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New_Logo_TMI_2[1]"/>
          <p:cNvPicPr/>
          <p:nvPr/>
        </p:nvPicPr>
        <p:blipFill>
          <a:blip r:embed="rId1"/>
          <a:stretch/>
        </p:blipFill>
        <p:spPr>
          <a:xfrm>
            <a:off x="7162920" y="5410080"/>
            <a:ext cx="1752480" cy="1179720"/>
          </a:xfrm>
          <a:prstGeom prst="rect">
            <a:avLst/>
          </a:prstGeom>
          <a:ln w="0">
            <a:noFill/>
          </a:ln>
        </p:spPr>
      </p:pic>
      <p:sp>
        <p:nvSpPr>
          <p:cNvPr id="131" name="Line 12"/>
          <p:cNvSpPr/>
          <p:nvPr/>
        </p:nvSpPr>
        <p:spPr>
          <a:xfrm>
            <a:off x="914400" y="838080"/>
            <a:ext cx="0" cy="6019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1:00:28Z</dcterms:created>
  <dc:creator>Chris Yeager</dc:creator>
  <dc:description/>
  <dc:language>en-US</dc:language>
  <cp:lastModifiedBy> </cp:lastModifiedBy>
  <dcterms:modified xsi:type="dcterms:W3CDTF">2009-08-25T18:50:11Z</dcterms:modified>
  <cp:revision>48</cp:revision>
  <dc:subject/>
  <dc:title>Slide 1</dc:title>
</cp:coreProperties>
</file>